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7D0-B735-464B-9A41-7A1F86C8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833-47E6-4D98-9D1D-74E99AE0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E35-A6DB-4289-B854-FD5930F4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C880-7A52-4CA5-AB28-CB353A01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91A8-3D04-4AA8-B9DE-EB7A817A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5CE1-44CF-4C63-8E9A-323D2C08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66A6-B548-478C-A8AF-D3326396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F2CF-75C0-45AE-900E-375BCA41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A918-48AB-4ACB-9E3F-1931BA1B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CBDE-65E9-406D-81CB-D3913683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20C6-6C89-43BD-A971-F3803172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5A3-9D91-4ADE-91A8-AB0C073D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6670-C6C4-482B-8797-37EE9AE3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4205-6909-4E1A-9B02-2DE05269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3B72-10D1-4A8E-B5E7-29242869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C8E4-71AC-4790-84D6-AC4ADF5C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8ABD-AE2B-4455-9217-17662076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292E5-8ABA-4C92-B687-BA5C4954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A6414-68C7-4AA1-9D5A-2C47F01B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B49F-235C-4B70-B98B-9893DFB1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5E3B-A91A-4964-86FD-BEBFDB42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594E2-1838-4CC4-A7BE-36CF9BA7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B02-41F5-49B3-802C-62033CF8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4654D-9D34-429D-AAC3-821E94B6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3712-F34F-476B-B3CE-80E35E5E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9FFF-E2F6-4255-AA98-481F0D7E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E8D9-A5B4-45D6-ACA9-99C49735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B59CB-8E71-4A59-B84D-873A9A80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2E552-FBB5-4D4B-A258-49717D40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42C47-88B5-434D-B69A-F4B6383B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BD8EA-F413-43DC-BAC2-8CFF1F35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6CA9-E25A-41AE-AEE9-5929E22F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1C8DE-7DB1-45CB-B355-B17EB7F8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40F-AA30-4079-8E19-27E72450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46B4F-2657-4C4D-92E1-15CB1101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FAAA6-1E02-4E35-BADF-64A6D600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11190-C429-484B-BBA7-1F0F9EB0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BD70-1BA1-44C4-BC7A-7110755B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DD50C-171A-4597-AF5E-BFB8D777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5F87F-DE83-4B19-8B51-BAB9CA8A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1AE2C-1610-4763-B1BE-1060CB6D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764BD-1399-4246-A76D-AACC82B5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3DED5-0F40-4A2B-AF0A-4F1604BA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C3B59-E77A-444A-B831-05FA3A85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73E5-35C9-475F-BF3D-6C2BA499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56EC4-D613-4A48-BFAF-EB560575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AE639-A077-4E16-87C2-5D6EBBC9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31E55-A3F6-47E1-B1B6-DA0F3EFA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C86A4-F906-4F0E-9866-A5F7F25D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78DA5-A0E0-4D2F-B076-9D06E26B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E02D4-80A2-4499-869A-831EE11E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B7302-52BD-4E3A-9FDA-D1BD5199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55E47-8AEE-41C7-8BDF-E660FC5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A04D-B63C-4F4F-A4E8-7B404A2B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03FD1-4503-4F9A-BB09-D2A793DA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AEFF-527D-4AE9-B28B-EF5E856F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D98B7-55DA-4CFD-BEA3-C39BF996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03A0-99D9-40C8-809A-93520572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B5F-E4E0-4086-8239-A5C4AF5B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9483-7D55-4183-80A4-DE696826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F9ED-20F9-4E88-89A1-056CF114676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D066-2B39-42CD-9299-EF01811223BF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996E-4C61-4B97-AEFF-2CE9BD2EE2F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9729-F58F-4F89-9D85-F43710F80C4F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26CF-51B9-4DC9-B126-01F88068E9CC}" type="slidenum">
              <a:rPr b="0" lang="ar-SA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4076640"/>
            <a:ext cx="5076720" cy="558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000000"/>
                </a:solidFill>
                <a:latin typeface="Tahoma"/>
                <a:cs typeface="????Boutros Rokaa"/>
              </a:rPr>
              <a:t>المسيح قام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25236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4080"/>
            <a:ext cx="5435640" cy="1150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يقُم الله فيتشتّت جميع أعدائ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ea typeface="Akhbar MT"/>
              </a:rPr>
              <a:t> ويهرُب مُبغضوه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ِ وجهِه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-36360" y="192240"/>
            <a:ext cx="5364000" cy="793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يَبيدوا كما يُبَدَّدُ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دخان وكما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يذوب الشمعُ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ِ وجهِ الن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9080" y="-3492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-27000"/>
            <a:ext cx="5219640" cy="9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كذلك يهلك الخطأة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ن أمام وجهه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يفرحُ الصدِّيقونَ</a:t>
            </a:r>
            <a:br>
              <a:rPr sz="6600"/>
            </a:b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مسروري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9080" y="-57240"/>
            <a:ext cx="7812000" cy="672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ـمسيح قام من بين الأمو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طِئَ الـموتَ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بالـمو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ووهب الحيا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للّذين في القبو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0"/>
            <a:ext cx="5724360" cy="864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هذا هو اليو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الذي صنعه الرب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 Unicode MS"/>
                <a:cs typeface="Akhbar MT"/>
              </a:rPr>
              <a:t>فلنفرح ولنتهلَّل ب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2:33:18Z</dcterms:created>
  <dc:creator>Charbel Azar</dc:creator>
  <dc:description/>
  <dc:language>en-US</dc:language>
  <cp:lastModifiedBy>ف</cp:lastModifiedBy>
  <dcterms:modified xsi:type="dcterms:W3CDTF">2006-04-17T20:18:52Z</dcterms:modified>
  <cp:revision>7</cp:revision>
  <dc:subject/>
  <dc:title>Slide 1</dc:title>
</cp:coreProperties>
</file>